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DAA-B3F8-4FB5-89FE-B91A7E8C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2464-F0A0-4F03-A795-19F26F9A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491-6815-4679-BC57-1FA6533A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4C8-C313-4452-98F5-FB0BDEFE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94C-9893-4A19-90E2-C3213490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3FFB-51C9-4BB3-98DE-D67DBD22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4B8-B79E-4355-A2B1-072F66AD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AE7-20FC-4737-8183-9FC6FF0A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6D2-4AA2-40C9-8091-0A084539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420A-7355-4CBA-91AB-6B1FBD0B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194-B8A5-413E-95FC-388CC83A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170B-E861-42A1-B440-636002AB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C57E-76D5-4A39-A626-80D0D2E8C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TEINURI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CHILDR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bara Botelho M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’s Hospital &amp; Research Center Oak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PRETING THE FIRST AM 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irst AM void shows normal protein excretion, no further work-up is nee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irst AM void is abnormal (urine pro/cr ratio &gt;0.2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dir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s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proteinuria is persistent and not orthostati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 TO A NEPHROLOGIST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FFERENTIAL DIAGNOSIS OF A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312372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al Segmental Glomeruloscler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S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ux Nephr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merulonephri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ic Lupus Erythemat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YMPTOMATIC PROTEINURIA:  WHAT IT IS NO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bsolutely not Minimal Change Nephrotic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no indication for a steroid t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SYMPTOMATIC PROTEINURIA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K-U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2361960"/>
            <a:ext cx="6705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**Albumin**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merulonephritis work-u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3, C4, CH50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patitis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A, ds DNA, ?AN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ultra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DMSA s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ORTHOSTATIC A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t to make a definitive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Biopsy may be indica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CAL SEGMENTAL GLOMERULOSCLER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parts of some glomeruli have sc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tly presents as nephrotic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present as 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incidence of progression to renal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S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d renal m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betes Melli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ckle Cell Nephr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une med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SGS:  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520" y="22093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 inhib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une med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medr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cineurin inhib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copheny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LUX NEPHROPAT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scarring related to UTIs in association with vesicoureteral reflu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bilateral, may cause renal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unilateral may cause asymptomatic proteinuria and hyperten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 year old girl presents for a sports phys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nd to have a U/A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15/5/no blood/no sugar/no LE/no nitr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100 mg/dL prot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LUX NEPHROPATHY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MSA S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even if there is not a clear history of U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lateral scarring may result in asymmetry of  renal lengths on renal ultra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REENING U/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nly way to detect 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effectivenes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reen first AM vo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avoid unnecessary testing or referr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ptoms/signs of glomeruloneph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ss hemat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al insuf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hrotic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 will focus on Nephrotic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ndrome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year old boy with sw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iously heal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 2-3 weeks 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d periorbital swelling one week 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x:  Aller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ASE CONTIN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welling worsens and now involves his entire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AL EX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P= 100/5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d periorbital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eath sounds clear but decreased at the 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cites, but nontender abdo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+ pitting edema to t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rate scrotal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-UP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.g.= 10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-20 R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u=ne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W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t=ne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5 Granular ca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d=sm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=n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trites=n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WORK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N=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b=1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=0.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l=3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=13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g=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=3.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=1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carb=2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CHANISMS OF PROTEINURIA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MER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VER/EXERCISE/ORTHOST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MERULAR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B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MW PROTE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BULOINTERSTITIAL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NCONI’S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FLOW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URINE STUD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e pro/cr ratio=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10 is considered nephrotic range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onsider a 24 hour urine collection but decide against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er than 1000 mg/M2 is considered nephrotic range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X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t to consider in child with anasar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sk of pleural ef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emely unusual to see pulmonary edema with nephrotic syndrome, unle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al insuf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ly aggressive management with 25% albu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HROTIC SYNDR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eria for diagno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phrotic Range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albumi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lipid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YOU COULD BE FOOL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albuminemia without significant proteinur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 losing enter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albumin 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ymph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GIVES YOU NEPHROTIC SYNDROME IN A TODDL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Chang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Chang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Chang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 Segmental Glomeruloscler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ran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ranoproliferative 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BE EVEN MORE SURE THAT THIS IS MC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dden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blood pres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hemat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aturia in 25% with MC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Creatin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Complement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pons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BLOOD WORK TO BE DONE AT PRES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on varicella sta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 IS NOT MINIMAL CHANGE DISEASE WHEN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tion as an inf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complement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suspicious in teena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 WHAT IS MC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ly altered glomerular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sion of podoc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ound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pons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psing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outgr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HROTIC SYNDROME IN CHILDREN IS CHANG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idence of FSGS is on the 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matic increase of around 300% since the 196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SGS is much more prevalent in African Americ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YMPTOMATIC OR ASYMPTOMATIC PROTEINURIA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elling, gross hemat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int pains, ras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ious U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pres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CAL SEGMENTAL GLOMERULOSCLER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logic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likely to be steroid resi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present as 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chance of progression to renal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REASED INCIDENCE OF FS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?Related to the obesity epidemic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sity induced FS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ension induced FS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ssume our patient has minimal change diseas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need for a renal biop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hat do we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 OF NEPHROTIC SYNDR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25146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the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 com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p the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 medication sid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O YOU GET EDEMAT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lin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% of oncotic pressure is due to albu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albumin less than 2.5 mg/dL edema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bumin infusions as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MEAS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et:  Low sa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 rest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uretic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UTRITIONAL ADV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added sa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fast 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food in little plastic pack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 milk and che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gm/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URE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3915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tempting but potentially danger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tes intravascular deple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risk of AT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risk of thromb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ICATIONS FROM EDE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26665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ntaneous Periton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ul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ural Ef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ICATIONS FROM INTRAVASCULAR DEPLE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89548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renal azot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tubular necr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mb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case: entirely asymptomatic with a benign exam.  She has never had a UTI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TO GIVE ALBUMIN AND LAS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240" y="27428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ton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ural ef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edema with skin breakdown/cellul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NOT TO GIVE ALUMIN AND LAS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266652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 PURPO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GIVE ALBUMIN AND LAS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% Albumin 1 gm/kg over 4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ix at hour #2 and upon comple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for hypertension and pulmonary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P THE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dnisone 2 mg/kg/day (Max 80 mg/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% WILL RESPOND WITHIN 2 W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predictor of MC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OD NEWS AND BAD NEW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CNS will likely get better with stero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ill come back again and again and ag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ecially a risk with intercurrent ill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IES TO PREVENT RELAP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ng initial Prednisone therapy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mg/kg/day for 6 w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per off Prednisone over a 6 week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t relap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or more relapses within a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depe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relapses consecutively on steroids or shortly after sto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sponse to steroids after 4 wee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ORE RELAPSES THE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STERO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TIMES STEROIDS AREN’T SO GRE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de effects of chronic steroid therap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teopor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r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b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GOOD STEROIDS GO B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excessive steroids are required to control nephrosis, consider a steroid sparing ag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need to wait for development of steroid side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COMMON IS PROTEINURI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-10% OF CHILDREN WILL HA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+ OR GRE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1% WILL HAVE PERSISTENT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ROID SPARING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2590920"/>
            <a:ext cx="7238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yclophospham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copheny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ineurin inhibi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lospor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crolim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OICE OF STEROID SPARING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274284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s on specific tissue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DICATIONS FOR A RENAL BIOPS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for a steroid sparing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IMAL CHANGE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sparing agent of cho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lophospham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mg/kg/day over 8 wee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itor carefully for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DE EFFECTS OF CYTOX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rrhagic Cyst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ourage good intake of flu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 urine specific gr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p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 blood draws to follow AN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rt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ir l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ANTAGES OF CYTOX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anticipate a prolonged (one year or more) medication free re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KE HOME MESS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ing care of patients with Nephrotic Syndrome is interesting and rewar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not too late to do a nephrology fellow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THE PROTEINURIA REAL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at the urine dipsticks only measure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te urine protein/Cr ratio on a spot urine sample (normal &lt;0.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 hour urine col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THE PROTEINURIA DANGER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proteinuria is transient or orthostatic, it is ben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VALUATE FOR ORTHOSTATIC PROTEINURI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*Give patient urine collection cup to take home.**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id before 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on awakening:  quick sitz b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 mid void s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igerate s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 for U/A and urine pro/c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22:19:15Z</dcterms:created>
  <dc:creator>cho</dc:creator>
  <dc:description/>
  <dc:language>en-US</dc:language>
  <cp:lastModifiedBy>cho</cp:lastModifiedBy>
  <dcterms:modified xsi:type="dcterms:W3CDTF">2010-05-26T18:14:10Z</dcterms:modified>
  <cp:revision>8</cp:revision>
  <dc:subject/>
  <dc:title>MECHANISMS OF PROTEINURIA </dc:title>
</cp:coreProperties>
</file>